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gif" ContentType="image/gif"/>
  <Override PartName="/ppt/media/image15.png" ContentType="image/png"/>
  <Override PartName="/ppt/media/image14.gif" ContentType="image/gif"/>
  <Override PartName="/ppt/media/whoosh.wav" ContentType="audio/x-wav"/>
  <Override PartName="/ppt/media/image13.wmf" ContentType="image/x-wmf"/>
  <Override PartName="/ppt/media/image1.png" ContentType="image/png"/>
  <Override PartName="/ppt/media/camera.wav" ContentType="audio/x-wav"/>
  <Override PartName="/ppt/media/image5.wmf" ContentType="image/x-wmf"/>
  <Override PartName="/ppt/media/image2.png" ContentType="image/png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71B-69F4-452F-9BEF-9EE10C9D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CB6-3345-49D7-B058-B726D97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6F-1886-421F-9C9E-87B9BCB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51C-5A35-4822-B34B-3FACCF63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AF2B-A7AC-4D87-9743-7727F13F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B83E-16DE-494F-AB9B-83DDAAE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E1BB-1027-473A-A660-3FE19E77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28EC-589C-458E-BF11-524FFD01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00C-AB81-41ED-B4EB-6ED0F8B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653-3F70-479A-A170-C2B12CA0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307E-185C-4C0B-A341-4013169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1F3-04E0-42A0-841F-033FC31D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F4C9-63A7-4047-AB0B-71BA7B8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2D0-1C56-409E-8B20-F70AC87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233-60EF-4AEA-A7F6-E2B7B258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17B9-21D8-47EF-B747-0A74DF27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E287-8BD4-4BD6-A981-4257826D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6A8-9EBE-4C15-B6F0-A75B2C9C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0E8-8AAB-4C58-83AF-C073742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7FE-08A5-4E98-8080-8A8042A5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6D9-2953-4993-95E4-C258F1BA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6CE-1BD1-4471-9229-CC2E150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0B7-3FE5-4B1B-87A4-DAAE765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75C-B280-46ED-8A41-53C7D3C1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DA0-BA91-4100-9672-EB943D279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751-EBE8-4D8F-BEE1-D171DA374B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webs.com/cotswoldretics/snake_cartoon_2.jpg&amp;imgrefurl=http://www.freewebs.com/cotswoldretics/available.htm&amp;h=180&amp;w=350&amp;sz=15&amp;hl=en&amp;start=6&amp;sig2=jjRaxHBr7ljr6hq8sZjNIA&amp;usg=__mhh_dQcdmxXOLg-MQCuKh4ijyD0=&amp;tbnid=Ozcv-hg7BWUIkM:&amp;tbnh=62&amp;tbnw=120&amp;ei=54vcSOjcKYe2wwGkv7iHDQ&amp;prev=/images%3Fq%3Dsnake%2Bcartoon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hyperlink" Target="http://images.google.com/imgres?imgurl=http://www.freewebs.com/cotswoldretics/snake_cartoon_2.jpg&amp;imgrefurl=http://www.freewebs.com/cotswoldretics/available.htm&amp;h=180&amp;w=350&amp;sz=15&amp;hl=en&amp;start=6&amp;sig2=jjRaxHBr7ljr6hq8sZjNIA&amp;usg=__mhh_dQcdmxXOLg-MQCuKh4ijyD0=&amp;tbnid=Ozcv-hg7BWUIkM:&amp;tbnh=62&amp;tbnw=120&amp;ei=54vcSOjcKYe2wwGkv7iHDQ&amp;prev=/images%3Fq%3Dsnake%2Bcartoon%26gbv%3D2%26hl%3Den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) to learn 10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) to learn how to form plu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) to describe what animals 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) to tell each other about your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cobay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537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p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ája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689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a serpien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614600"/>
            <a:ext cx="5184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a tortug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10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372000" y="3789360"/>
            <a:ext cx="719280" cy="862920"/>
            <a:chOff x="6372000" y="3789360"/>
            <a:chExt cx="719280" cy="862920"/>
          </a:xfrm>
        </p:grpSpPr>
        <p:grpSp>
          <p:nvGrpSpPr>
            <p:cNvPr id="199" name=""/>
            <p:cNvGrpSpPr/>
            <p:nvPr/>
          </p:nvGrpSpPr>
          <p:grpSpPr>
            <a:xfrm>
              <a:off x="6372000" y="3789360"/>
              <a:ext cx="719280" cy="862920"/>
              <a:chOff x="6372000" y="3789360"/>
              <a:chExt cx="719280" cy="862920"/>
            </a:xfrm>
          </p:grpSpPr>
          <p:sp>
            <p:nvSpPr>
              <p:cNvPr id="200" name=""/>
              <p:cNvSpPr/>
              <p:nvPr/>
            </p:nvSpPr>
            <p:spPr>
              <a:xfrm>
                <a:off x="6372360" y="378936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6372000" y="399528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 txBox="1"/>
            <p:nvPr/>
          </p:nvSpPr>
          <p:spPr>
            <a:xfrm>
              <a:off x="6665760" y="3995640"/>
              <a:ext cx="123120" cy="46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50920" y="1628640"/>
            <a:ext cx="792000" cy="862920"/>
            <a:chOff x="250920" y="1628640"/>
            <a:chExt cx="792000" cy="862920"/>
          </a:xfrm>
        </p:grpSpPr>
        <p:grpSp>
          <p:nvGrpSpPr>
            <p:cNvPr id="204" name=""/>
            <p:cNvGrpSpPr/>
            <p:nvPr/>
          </p:nvGrpSpPr>
          <p:grpSpPr>
            <a:xfrm>
              <a:off x="250920" y="1628640"/>
              <a:ext cx="792000" cy="862920"/>
              <a:chOff x="250920" y="1628640"/>
              <a:chExt cx="792000" cy="862920"/>
            </a:xfrm>
          </p:grpSpPr>
          <p:sp>
            <p:nvSpPr>
              <p:cNvPr id="205" name=""/>
              <p:cNvSpPr/>
              <p:nvPr/>
            </p:nvSpPr>
            <p:spPr>
              <a:xfrm>
                <a:off x="250920" y="1628640"/>
                <a:ext cx="79200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250920" y="1834560"/>
                <a:ext cx="79200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 txBox="1"/>
            <p:nvPr/>
          </p:nvSpPr>
          <p:spPr>
            <a:xfrm>
              <a:off x="539640" y="1844640"/>
              <a:ext cx="227160" cy="46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19280" y="1628640"/>
            <a:ext cx="719280" cy="862920"/>
            <a:chOff x="3419280" y="1628640"/>
            <a:chExt cx="719280" cy="862920"/>
          </a:xfrm>
        </p:grpSpPr>
        <p:grpSp>
          <p:nvGrpSpPr>
            <p:cNvPr id="209" name=""/>
            <p:cNvGrpSpPr/>
            <p:nvPr/>
          </p:nvGrpSpPr>
          <p:grpSpPr>
            <a:xfrm>
              <a:off x="3419280" y="1628640"/>
              <a:ext cx="719280" cy="862920"/>
              <a:chOff x="3419280" y="1628640"/>
              <a:chExt cx="719280" cy="86292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162864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419280" y="183456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3663360" y="1834920"/>
              <a:ext cx="207360" cy="46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516720" y="1773360"/>
            <a:ext cx="719280" cy="840960"/>
            <a:chOff x="6516720" y="1773360"/>
            <a:chExt cx="719280" cy="840960"/>
          </a:xfrm>
        </p:grpSpPr>
        <p:grpSp>
          <p:nvGrpSpPr>
            <p:cNvPr id="214" name=""/>
            <p:cNvGrpSpPr/>
            <p:nvPr/>
          </p:nvGrpSpPr>
          <p:grpSpPr>
            <a:xfrm>
              <a:off x="6516720" y="1773360"/>
              <a:ext cx="719280" cy="840960"/>
              <a:chOff x="6516720" y="1773360"/>
              <a:chExt cx="719280" cy="840960"/>
            </a:xfrm>
          </p:grpSpPr>
          <p:sp>
            <p:nvSpPr>
              <p:cNvPr id="215" name=""/>
              <p:cNvSpPr/>
              <p:nvPr/>
            </p:nvSpPr>
            <p:spPr>
              <a:xfrm>
                <a:off x="6516720" y="1773360"/>
                <a:ext cx="71928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0800000">
                <a:off x="6516720" y="1974240"/>
                <a:ext cx="71928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 txBox="1"/>
            <p:nvPr/>
          </p:nvSpPr>
          <p:spPr>
            <a:xfrm>
              <a:off x="6760440" y="1974240"/>
              <a:ext cx="207360" cy="45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3640" y="3645000"/>
            <a:ext cx="841680" cy="935640"/>
            <a:chOff x="323640" y="3645000"/>
            <a:chExt cx="841680" cy="935640"/>
          </a:xfrm>
        </p:grpSpPr>
        <p:grpSp>
          <p:nvGrpSpPr>
            <p:cNvPr id="219" name=""/>
            <p:cNvGrpSpPr/>
            <p:nvPr/>
          </p:nvGrpSpPr>
          <p:grpSpPr>
            <a:xfrm>
              <a:off x="323640" y="3645000"/>
              <a:ext cx="841680" cy="935640"/>
              <a:chOff x="323640" y="3645000"/>
              <a:chExt cx="841680" cy="93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324000" y="3645000"/>
                <a:ext cx="841320" cy="7124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323640" y="3868200"/>
                <a:ext cx="841320" cy="7124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 txBox="1"/>
            <p:nvPr/>
          </p:nvSpPr>
          <p:spPr>
            <a:xfrm>
              <a:off x="609120" y="3868560"/>
              <a:ext cx="24264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03280" y="3789360"/>
            <a:ext cx="770400" cy="862920"/>
            <a:chOff x="3203280" y="3789360"/>
            <a:chExt cx="770400" cy="862920"/>
          </a:xfrm>
        </p:grpSpPr>
        <p:grpSp>
          <p:nvGrpSpPr>
            <p:cNvPr id="224" name=""/>
            <p:cNvGrpSpPr/>
            <p:nvPr/>
          </p:nvGrpSpPr>
          <p:grpSpPr>
            <a:xfrm>
              <a:off x="3203280" y="3789360"/>
              <a:ext cx="770400" cy="862920"/>
              <a:chOff x="3203280" y="3789360"/>
              <a:chExt cx="770400" cy="862920"/>
            </a:xfrm>
          </p:grpSpPr>
          <p:sp>
            <p:nvSpPr>
              <p:cNvPr id="225" name=""/>
              <p:cNvSpPr/>
              <p:nvPr/>
            </p:nvSpPr>
            <p:spPr>
              <a:xfrm>
                <a:off x="3203640" y="3789360"/>
                <a:ext cx="77004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0800000">
                <a:off x="3203280" y="3995280"/>
                <a:ext cx="77004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 txBox="1"/>
            <p:nvPr/>
          </p:nvSpPr>
          <p:spPr>
            <a:xfrm>
              <a:off x="3464640" y="3995640"/>
              <a:ext cx="221760" cy="46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4000" y="5734080"/>
            <a:ext cx="863280" cy="792000"/>
            <a:chOff x="324000" y="5734080"/>
            <a:chExt cx="863280" cy="792000"/>
          </a:xfrm>
        </p:grpSpPr>
        <p:grpSp>
          <p:nvGrpSpPr>
            <p:cNvPr id="229" name=""/>
            <p:cNvGrpSpPr/>
            <p:nvPr/>
          </p:nvGrpSpPr>
          <p:grpSpPr>
            <a:xfrm>
              <a:off x="324000" y="5734080"/>
              <a:ext cx="863280" cy="792000"/>
              <a:chOff x="324000" y="5734080"/>
              <a:chExt cx="863280" cy="792000"/>
            </a:xfrm>
          </p:grpSpPr>
          <p:sp>
            <p:nvSpPr>
              <p:cNvPr id="230" name=""/>
              <p:cNvSpPr/>
              <p:nvPr/>
            </p:nvSpPr>
            <p:spPr>
              <a:xfrm>
                <a:off x="324000" y="5734080"/>
                <a:ext cx="863280" cy="6026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324000" y="5923440"/>
                <a:ext cx="863280" cy="6026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 txBox="1"/>
            <p:nvPr/>
          </p:nvSpPr>
          <p:spPr>
            <a:xfrm>
              <a:off x="616680" y="5923440"/>
              <a:ext cx="248760" cy="42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239920" cy="2287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1922400" cy="2198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948360" y="692280"/>
            <a:ext cx="1944720" cy="1844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2743200" cy="1298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4356000" y="2708280"/>
            <a:ext cx="1859040" cy="1816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093080" y="2708280"/>
            <a:ext cx="1709640" cy="190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042920" y="4797360"/>
            <a:ext cx="1374840" cy="14652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2626920" y="5734080"/>
            <a:ext cx="792720" cy="840960"/>
            <a:chOff x="2626920" y="5734080"/>
            <a:chExt cx="792720" cy="840960"/>
          </a:xfrm>
        </p:grpSpPr>
        <p:grpSp>
          <p:nvGrpSpPr>
            <p:cNvPr id="241" name=""/>
            <p:cNvGrpSpPr/>
            <p:nvPr/>
          </p:nvGrpSpPr>
          <p:grpSpPr>
            <a:xfrm>
              <a:off x="2626920" y="5734080"/>
              <a:ext cx="792720" cy="840960"/>
              <a:chOff x="2626920" y="5734080"/>
              <a:chExt cx="792720" cy="8409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7280" y="5734080"/>
                <a:ext cx="79236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0800000">
                <a:off x="2626920" y="5934960"/>
                <a:ext cx="79236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 txBox="1"/>
            <p:nvPr/>
          </p:nvSpPr>
          <p:spPr>
            <a:xfrm>
              <a:off x="2895840" y="5934960"/>
              <a:ext cx="228240" cy="45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5734080"/>
            <a:ext cx="792000" cy="840960"/>
            <a:chOff x="4932360" y="5734080"/>
            <a:chExt cx="792000" cy="840960"/>
          </a:xfrm>
        </p:grpSpPr>
        <p:grpSp>
          <p:nvGrpSpPr>
            <p:cNvPr id="246" name=""/>
            <p:cNvGrpSpPr/>
            <p:nvPr/>
          </p:nvGrpSpPr>
          <p:grpSpPr>
            <a:xfrm>
              <a:off x="4932360" y="5734080"/>
              <a:ext cx="792000" cy="840960"/>
              <a:chOff x="4932360" y="5734080"/>
              <a:chExt cx="792000" cy="840960"/>
            </a:xfrm>
          </p:grpSpPr>
          <p:sp>
            <p:nvSpPr>
              <p:cNvPr id="247" name=""/>
              <p:cNvSpPr/>
              <p:nvPr/>
            </p:nvSpPr>
            <p:spPr>
              <a:xfrm>
                <a:off x="4932360" y="573408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0800000">
                <a:off x="4932360" y="593496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 txBox="1"/>
            <p:nvPr/>
          </p:nvSpPr>
          <p:spPr>
            <a:xfrm>
              <a:off x="5276880" y="5935680"/>
              <a:ext cx="15228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3419640" y="4437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5508720" y="5229360"/>
            <a:ext cx="1511280" cy="9698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6588000" y="5805360"/>
            <a:ext cx="792000" cy="840960"/>
            <a:chOff x="6588000" y="5805360"/>
            <a:chExt cx="792000" cy="840960"/>
          </a:xfrm>
        </p:grpSpPr>
        <p:grpSp>
          <p:nvGrpSpPr>
            <p:cNvPr id="253" name=""/>
            <p:cNvGrpSpPr/>
            <p:nvPr/>
          </p:nvGrpSpPr>
          <p:grpSpPr>
            <a:xfrm>
              <a:off x="6588000" y="5805360"/>
              <a:ext cx="792000" cy="840960"/>
              <a:chOff x="6588000" y="5805360"/>
              <a:chExt cx="792000" cy="840960"/>
            </a:xfrm>
          </p:grpSpPr>
          <p:sp>
            <p:nvSpPr>
              <p:cNvPr id="254" name=""/>
              <p:cNvSpPr/>
              <p:nvPr/>
            </p:nvSpPr>
            <p:spPr>
              <a:xfrm>
                <a:off x="6588000" y="580536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0800000">
                <a:off x="6588000" y="600624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6932520" y="6006960"/>
              <a:ext cx="15228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j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5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164360" y="5229360"/>
            <a:ext cx="1727280" cy="89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6372360" y="2492280"/>
            <a:ext cx="1871280" cy="2016000"/>
            <a:chOff x="6372360" y="2492280"/>
            <a:chExt cx="1871280" cy="2016000"/>
          </a:xfrm>
        </p:grpSpPr>
        <p:sp>
          <p:nvSpPr>
            <p:cNvPr id="259" name=""/>
            <p:cNvSpPr/>
            <p:nvPr/>
          </p:nvSpPr>
          <p:spPr>
            <a:xfrm>
              <a:off x="6372360" y="2492280"/>
              <a:ext cx="1871280" cy="2016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138080" y="2845080"/>
              <a:ext cx="573840" cy="95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635280" y="2637000"/>
            <a:ext cx="1944360" cy="1680480"/>
            <a:chOff x="3635280" y="2637000"/>
            <a:chExt cx="1944360" cy="1680480"/>
          </a:xfrm>
        </p:grpSpPr>
        <p:sp>
          <p:nvSpPr>
            <p:cNvPr id="262" name=""/>
            <p:cNvSpPr/>
            <p:nvPr/>
          </p:nvSpPr>
          <p:spPr>
            <a:xfrm>
              <a:off x="3635280" y="2637000"/>
              <a:ext cx="1944360" cy="1680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430880" y="2931120"/>
              <a:ext cx="59616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708360" y="404640"/>
            <a:ext cx="1800000" cy="1811160"/>
            <a:chOff x="3708360" y="404640"/>
            <a:chExt cx="1800000" cy="1811160"/>
          </a:xfrm>
        </p:grpSpPr>
        <p:sp>
          <p:nvSpPr>
            <p:cNvPr id="265" name=""/>
            <p:cNvSpPr/>
            <p:nvPr/>
          </p:nvSpPr>
          <p:spPr>
            <a:xfrm>
              <a:off x="3708360" y="404640"/>
              <a:ext cx="1800000" cy="181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444920" y="72144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71640" y="476280"/>
            <a:ext cx="1676160" cy="1676160"/>
            <a:chOff x="971640" y="476280"/>
            <a:chExt cx="1676160" cy="1676160"/>
          </a:xfrm>
        </p:grpSpPr>
        <p:sp>
          <p:nvSpPr>
            <p:cNvPr id="268" name=""/>
            <p:cNvSpPr/>
            <p:nvPr/>
          </p:nvSpPr>
          <p:spPr>
            <a:xfrm>
              <a:off x="971640" y="476280"/>
              <a:ext cx="1676160" cy="1676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657440" y="769680"/>
              <a:ext cx="514080" cy="79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900000" y="2637000"/>
            <a:ext cx="1656000" cy="1739520"/>
            <a:chOff x="900000" y="2637000"/>
            <a:chExt cx="1656000" cy="1739520"/>
          </a:xfrm>
        </p:grpSpPr>
        <p:sp>
          <p:nvSpPr>
            <p:cNvPr id="271" name=""/>
            <p:cNvSpPr/>
            <p:nvPr/>
          </p:nvSpPr>
          <p:spPr>
            <a:xfrm>
              <a:off x="900000" y="2637000"/>
              <a:ext cx="1656000" cy="17395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1577520" y="2941560"/>
              <a:ext cx="507600" cy="82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4360" y="4653000"/>
            <a:ext cx="1584000" cy="1883880"/>
            <a:chOff x="684360" y="4653000"/>
            <a:chExt cx="1584000" cy="1883880"/>
          </a:xfrm>
        </p:grpSpPr>
        <p:sp>
          <p:nvSpPr>
            <p:cNvPr id="274" name=""/>
            <p:cNvSpPr/>
            <p:nvPr/>
          </p:nvSpPr>
          <p:spPr>
            <a:xfrm>
              <a:off x="684360" y="4653000"/>
              <a:ext cx="1584000" cy="1883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332360" y="4982760"/>
              <a:ext cx="485640" cy="8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627280" y="4724280"/>
            <a:ext cx="1800000" cy="1800000"/>
            <a:chOff x="2627280" y="4724280"/>
            <a:chExt cx="1800000" cy="1800000"/>
          </a:xfrm>
        </p:grpSpPr>
        <p:sp>
          <p:nvSpPr>
            <p:cNvPr id="277" name=""/>
            <p:cNvSpPr/>
            <p:nvPr/>
          </p:nvSpPr>
          <p:spPr>
            <a:xfrm>
              <a:off x="262728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36384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676160" cy="171144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6372360" y="476280"/>
            <a:ext cx="1799640" cy="1810800"/>
            <a:chOff x="6372360" y="476280"/>
            <a:chExt cx="1799640" cy="1810800"/>
          </a:xfrm>
        </p:grpSpPr>
        <p:sp>
          <p:nvSpPr>
            <p:cNvPr id="281" name=""/>
            <p:cNvSpPr/>
            <p:nvPr/>
          </p:nvSpPr>
          <p:spPr>
            <a:xfrm>
              <a:off x="6372360" y="476280"/>
              <a:ext cx="1799640" cy="1810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108560" y="79308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04000" y="4724280"/>
            <a:ext cx="1800000" cy="1800000"/>
            <a:chOff x="6804000" y="4724280"/>
            <a:chExt cx="1800000" cy="1800000"/>
          </a:xfrm>
        </p:grpSpPr>
        <p:sp>
          <p:nvSpPr>
            <p:cNvPr id="284" name=""/>
            <p:cNvSpPr/>
            <p:nvPr/>
          </p:nvSpPr>
          <p:spPr>
            <a:xfrm>
              <a:off x="680400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54056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924360" y="404640"/>
            <a:ext cx="1568520" cy="1793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372360" y="474840"/>
            <a:ext cx="1871640" cy="17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1513080" cy="1022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851280" y="2708280"/>
            <a:ext cx="1571760" cy="1535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6732720" y="2492280"/>
            <a:ext cx="1258920" cy="1405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685880" cy="2087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4716360" y="4724280"/>
            <a:ext cx="1509840" cy="160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684360" y="4797360"/>
            <a:ext cx="1657080" cy="1198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6588000" y="4930920"/>
            <a:ext cx="230364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722400" cy="3801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14400" y="48769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Un per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722760" cy="3802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14400" y="48769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dos per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37227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384720" cy="3611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143000" y="5181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Un rat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3384360" cy="3611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5181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dos raton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384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Pl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form the plural of a noun, you us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‘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perro – dos perros (one dog/two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 if the noun ends in a consona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‘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ratón – dos ratones (one mouse/two m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f it ends in “z” it becomes “ces” e.g. pez – pe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35280" y="1628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0" y="404640"/>
            <a:ext cx="261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áti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76500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83664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16360" y="69228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76500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tig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69228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tig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r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76500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tig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r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cocodri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732720" y="663480"/>
            <a:ext cx="1871640" cy="127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443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32 q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1197000"/>
            <a:ext cx="28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¿Tienes animales en ca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59280" y="1916280"/>
            <a:ext cx="316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í teng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n gat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llam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luff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¿Y t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, no tengo ani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¿Y t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2781360"/>
            <a:ext cx="273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í teng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n perr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llam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nz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, no tengo ani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64000" y="2492280"/>
            <a:ext cx="1008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779640" y="3573360"/>
            <a:ext cx="865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55280" y="1484280"/>
            <a:ext cx="73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ete the vocab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t the animals into plu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whether you have animals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, ask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¿tienes animales en ca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ffffff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5280" y="2060640"/>
            <a:ext cx="813600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Tienes un animal en casa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alking about your p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55280" y="1484280"/>
            <a:ext cx="73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ete the vocab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t the animals into plu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whether you have animals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, ask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¿tienes animales en ca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6372360" y="2492280"/>
            <a:ext cx="1871280" cy="2016000"/>
            <a:chOff x="6372360" y="2492280"/>
            <a:chExt cx="1871280" cy="2016000"/>
          </a:xfrm>
        </p:grpSpPr>
        <p:sp>
          <p:nvSpPr>
            <p:cNvPr id="346" name=""/>
            <p:cNvSpPr/>
            <p:nvPr/>
          </p:nvSpPr>
          <p:spPr>
            <a:xfrm>
              <a:off x="6372360" y="2492280"/>
              <a:ext cx="1871280" cy="2016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138080" y="2845080"/>
              <a:ext cx="573840" cy="95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35280" y="2637000"/>
            <a:ext cx="1944360" cy="1680480"/>
            <a:chOff x="3635280" y="2637000"/>
            <a:chExt cx="1944360" cy="1680480"/>
          </a:xfrm>
        </p:grpSpPr>
        <p:sp>
          <p:nvSpPr>
            <p:cNvPr id="349" name=""/>
            <p:cNvSpPr/>
            <p:nvPr/>
          </p:nvSpPr>
          <p:spPr>
            <a:xfrm>
              <a:off x="3635280" y="2637000"/>
              <a:ext cx="1944360" cy="1680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4430880" y="2931120"/>
              <a:ext cx="59616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708360" y="404640"/>
            <a:ext cx="1800000" cy="1811160"/>
            <a:chOff x="3708360" y="404640"/>
            <a:chExt cx="1800000" cy="1811160"/>
          </a:xfrm>
        </p:grpSpPr>
        <p:sp>
          <p:nvSpPr>
            <p:cNvPr id="352" name=""/>
            <p:cNvSpPr/>
            <p:nvPr/>
          </p:nvSpPr>
          <p:spPr>
            <a:xfrm>
              <a:off x="3708360" y="404640"/>
              <a:ext cx="1800000" cy="181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444920" y="72144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71640" y="476280"/>
            <a:ext cx="1676160" cy="1676160"/>
            <a:chOff x="971640" y="476280"/>
            <a:chExt cx="1676160" cy="1676160"/>
          </a:xfrm>
        </p:grpSpPr>
        <p:sp>
          <p:nvSpPr>
            <p:cNvPr id="355" name=""/>
            <p:cNvSpPr/>
            <p:nvPr/>
          </p:nvSpPr>
          <p:spPr>
            <a:xfrm>
              <a:off x="971640" y="476280"/>
              <a:ext cx="1676160" cy="1676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1657440" y="769680"/>
              <a:ext cx="514080" cy="79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900000" y="2637000"/>
            <a:ext cx="1656000" cy="1739520"/>
            <a:chOff x="900000" y="2637000"/>
            <a:chExt cx="1656000" cy="1739520"/>
          </a:xfrm>
        </p:grpSpPr>
        <p:sp>
          <p:nvSpPr>
            <p:cNvPr id="358" name=""/>
            <p:cNvSpPr/>
            <p:nvPr/>
          </p:nvSpPr>
          <p:spPr>
            <a:xfrm>
              <a:off x="900000" y="2637000"/>
              <a:ext cx="1656000" cy="17395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1577520" y="2941560"/>
              <a:ext cx="507600" cy="82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84360" y="4653000"/>
            <a:ext cx="1584000" cy="1883880"/>
            <a:chOff x="684360" y="4653000"/>
            <a:chExt cx="1584000" cy="1883880"/>
          </a:xfrm>
        </p:grpSpPr>
        <p:sp>
          <p:nvSpPr>
            <p:cNvPr id="361" name=""/>
            <p:cNvSpPr/>
            <p:nvPr/>
          </p:nvSpPr>
          <p:spPr>
            <a:xfrm>
              <a:off x="684360" y="4653000"/>
              <a:ext cx="1584000" cy="1883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332360" y="4982760"/>
              <a:ext cx="485640" cy="8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627280" y="4724280"/>
            <a:ext cx="1800000" cy="1800000"/>
            <a:chOff x="2627280" y="4724280"/>
            <a:chExt cx="1800000" cy="1800000"/>
          </a:xfrm>
        </p:grpSpPr>
        <p:sp>
          <p:nvSpPr>
            <p:cNvPr id="364" name=""/>
            <p:cNvSpPr/>
            <p:nvPr/>
          </p:nvSpPr>
          <p:spPr>
            <a:xfrm>
              <a:off x="262728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36384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676160" cy="17114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6372360" y="476280"/>
            <a:ext cx="1799640" cy="1810800"/>
            <a:chOff x="6372360" y="476280"/>
            <a:chExt cx="1799640" cy="1810800"/>
          </a:xfrm>
        </p:grpSpPr>
        <p:sp>
          <p:nvSpPr>
            <p:cNvPr id="368" name=""/>
            <p:cNvSpPr/>
            <p:nvPr/>
          </p:nvSpPr>
          <p:spPr>
            <a:xfrm>
              <a:off x="6372360" y="476280"/>
              <a:ext cx="1799640" cy="1810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7108560" y="79308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804000" y="4724280"/>
            <a:ext cx="1800000" cy="1800000"/>
            <a:chOff x="6804000" y="4724280"/>
            <a:chExt cx="1800000" cy="1800000"/>
          </a:xfrm>
        </p:grpSpPr>
        <p:sp>
          <p:nvSpPr>
            <p:cNvPr id="371" name=""/>
            <p:cNvSpPr/>
            <p:nvPr/>
          </p:nvSpPr>
          <p:spPr>
            <a:xfrm>
              <a:off x="680400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54056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924360" y="404640"/>
            <a:ext cx="1568520" cy="1793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372360" y="474840"/>
            <a:ext cx="1871640" cy="1774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1513080" cy="10224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3851280" y="2708280"/>
            <a:ext cx="1571760" cy="15350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6732720" y="2492280"/>
            <a:ext cx="1258920" cy="1405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685880" cy="2087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4716360" y="4724280"/>
            <a:ext cx="1509840" cy="1609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684360" y="4797360"/>
            <a:ext cx="1657080" cy="1198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6588000" y="4930920"/>
            <a:ext cx="23036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3595680" cy="367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per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caba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70280" y="333360"/>
            <a:ext cx="3336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ga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240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pez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3280" y="1230480"/>
            <a:ext cx="33717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conej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2903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rat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2836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9:06:35Z</dcterms:created>
  <dc:creator>James Pearson</dc:creator>
  <dc:description/>
  <dc:language>en-US</dc:language>
  <cp:lastModifiedBy>Owner1</cp:lastModifiedBy>
  <dcterms:modified xsi:type="dcterms:W3CDTF">2008-10-01T13:29:47Z</dcterms:modified>
  <cp:revision>14</cp:revision>
  <dc:subject/>
  <dc:title>Slide 1</dc:title>
</cp:coreProperties>
</file>